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CA7-5352-42A1-8ACE-009F2E86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D378-97B1-4C24-B98A-16E18108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0F54-E236-4CEF-8326-22D2D2D9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8DE2-D4E6-4900-8E9E-D8E0D8EB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0A1F-7D48-441A-8248-399007D9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0129-3753-49DB-8CBA-DA39613B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88C8-50C5-437E-83F4-24BD116D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A80A-6EB7-4862-84F8-96B205F4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811F-2653-4A69-B49F-79BF6B1D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41F8-F0AC-4B6D-9DD6-FDB65032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2D25-F824-46D1-A058-001D71D1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EE5-1309-4954-87AA-A21AB353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BD32-A296-4DF2-95D5-D1B1C90A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2774-DD0D-480E-9B48-7D036A33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B0C9-E134-46E1-ABE3-5D15DE52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4436-A2E7-4153-921C-44AF2980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EE6B-C6D0-411B-9701-CF8BB7F6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986C-36AB-4B08-8E39-B69482E9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F3B-0E77-4828-949E-3F22A48C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5332-7BAF-463C-8657-5EF9BAF5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0C5F-EEA2-4DE1-B1D8-01B995F8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A92-10EF-4FF3-8C8B-5E1A7E7B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864F-7CA5-43EB-9B44-E9C70CD5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674-2F31-4791-A481-B320649C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9839-6B06-4871-B784-0B0A72EAB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8657-041F-44F3-B542-FD8D7A427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Multimedia Web Site Design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Times New Roman"/>
              </a:rPr>
              <a:t>Chapter 13</a:t>
            </a:r>
            <a:endParaRPr b="1" lang="en-US" sz="7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Web Page Design Guidelines</a:t>
            </a:r>
            <a:endParaRPr b="0" lang="en-US" sz="36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 the objectives you have set for the si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short amounts of text. Group sets of text on one pag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careful with text color and background colo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sure content is accurate and spelling is correc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Futura Md BT"/>
              </a:rPr>
              <a:t>Web Page Design Guidelines </a:t>
            </a:r>
            <a:r>
              <a:rPr b="1" lang="en-US" sz="2000" spc="-1" strike="noStrike">
                <a:solidFill>
                  <a:srgbClr val="000099"/>
                </a:solidFill>
                <a:latin typeface="Futura Md BT"/>
              </a:rPr>
              <a:t>(continued)</a:t>
            </a:r>
            <a:endParaRPr b="0" lang="en-US" sz="2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s and special effects should add interest, not distrac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vigation should be friendly, consistent, and usefu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 sources for information on the site if necessary for copyrigh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rs, text formatting, navigation, and layout should be consistent throughout the si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Building an Effective Web Sit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eating a Web site is easy, but creating one that is useful and attractive takes knowledge, practice, and skill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eb Site Organization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organization of the Web site is important. The site’s home page: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be the only page on a 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ten introduces the Web site’s theme and provides links to the site’s other p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648320" y="2057400"/>
            <a:ext cx="43434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eb Site Fil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ach web page is a file stored on a Web server, and has a unique URL which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inguishes it from the millions of other Web pages on the Inter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browsers to find 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eb Programming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 files for a Web site are created with programming language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Web programming uses HTML or other markup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 design software lets you create a page, and the software then generates the HTML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eb Site Goal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 most important consideration in the design of any Web site is the objective of the site.  These goals reflect the goals of the site’s publisher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Business Site Objectiv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 business site might have these goal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izing products or services and providing a way to purchase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izing job openings and providing a way of applying for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ing financial information for inves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ing contact information for offices or st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ing other information about the busi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Noncommercial Site Objective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zations and individuals develop Web sites for a variety of purpose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ools and colleges provide distance learning and other inform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sional and trade organizations publish announcements and other inform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 interest groups offer information or organize volunteer effor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Design Considerations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nce you have determined the objective of the site, you must consider its design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must be designed to appeal to its target audie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and graphic hyperlinks must be well-design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out, color, text formatting, graphics, videos, and special effects provide the visual desig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must be designed to view well in all brows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20:33:53Z</dcterms:created>
  <dc:creator>LJ</dc:creator>
  <dc:description/>
  <dc:language>en-US</dc:language>
  <cp:lastModifiedBy>GLENCOE</cp:lastModifiedBy>
  <dcterms:modified xsi:type="dcterms:W3CDTF">2003-01-04T01:55:50Z</dcterms:modified>
  <cp:revision>6</cp:revision>
  <dc:subject/>
  <dc:title>Chapter 13 Multimedia Web Site Design</dc:title>
</cp:coreProperties>
</file>